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31C-8086-476D-9FCB-D9AB8C48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682-5E51-4C35-B167-1CACE0C6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4C0-BFB4-42B0-A1B1-6D73B5E9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FDD-C4EB-4FE5-B02C-82EED55D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347-F5B8-424A-819A-1228540A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369-59EB-4BB5-BF04-5D3FFF2B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1B9-1BE4-452D-A735-A9A1D7AA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D95-567B-4E5C-9D8F-A03EAB40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8E3-3897-4555-9155-A862104C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DEB-3E1D-4944-98F4-03BB0DC0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850-3ADD-4454-A900-5CC58629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433-49ED-4C02-9FE3-2EA939ED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7471-07AB-4005-8454-EFC5B8B503A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terature Review –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520" y="2143080"/>
            <a:ext cx="771516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Calibri"/>
              </a:rPr>
              <a:t>To better understand your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Calibri"/>
              </a:rPr>
              <a:t>To determine what is currently/historically kn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Calibri"/>
              </a:rPr>
              <a:t>To check alignment or conflict with your hypo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Calibri"/>
              </a:rPr>
              <a:t>To identify concepts/practices upon which you will bui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terature Review – w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Identify 3 – 5 auth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can titles, chapter titles, headings, abstr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can citations (read backwar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earch key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Use search eng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can jour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terature Review – 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Read actual items (books, articles, tex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hoose a variety of perspectives on your 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hoose “old” and “new” views – check year of pub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ite the book (APA format for this cl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Write a concise summary of the art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Write a brief qualifying statement on the author(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nnotated literature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ituate the authority/background of the author(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Identify the intended aud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Explain how this work illuminates your 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ompare or contrast this work with another you have c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ompare or contract a current view with an historic o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ociology Department researchers at Brown University (2008) used data from a 10-year longitudinal study of young adults (18 – 24) to test a hypothesis that non-family living by young adults before marriage alters their attitudes, values, plans and marital expectations, moving them away from their beliefs in traditional sex rol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ample 1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1143000"/>
            <a:ext cx="8572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Increased time living away from parents before marriage increas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Individu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elf-su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Tolerance for different task/role arrang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Effects were stronger in women than 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Outcome differs from earlier study by Williams (1980) implicating general change in social attitu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Large-scale investigation into relationship between reaching achievement and methods of teac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onducted for National Foundation for Educational Research, known for its rigorous techniq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8,000 primary children in 60 schools in Kent, England, learning to read in their mother tong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ample 2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840" y="92880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tudents succeeded as independent readers in short, medium and long spans of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Variety of instructional methods scored equally w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Peer reading support (listening but not correcting) also improved reading sc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tudy was corrected for socio-economic differen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Get a publication manual or use an online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Learn the different types of works (books, periodicals, technical reports, electronic media 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Gather some exemplars and COPY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For this work – PUNCTUATION COUNTS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2:41:57Z</dcterms:created>
  <dc:creator>Elaine Decker</dc:creator>
  <dc:description/>
  <dc:language>en-US</dc:language>
  <cp:lastModifiedBy>Owner</cp:lastModifiedBy>
  <dcterms:modified xsi:type="dcterms:W3CDTF">2009-09-20T23:43:20Z</dcterms:modified>
  <cp:revision>22</cp:revision>
  <dc:subject/>
  <dc:title>Qualitative research</dc:title>
</cp:coreProperties>
</file>